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676-42E6-4149-98B5-3862B8B7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8C0-4670-4E1E-A2C8-A9E34E3D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25E-CC49-4639-BDD6-D8EECC72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A8E-C685-4ADB-81DE-AB5DAF78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E62A-7B9D-4F38-AC2F-0A24EA1C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34DC-8A5B-48CC-AC4A-3B3CB09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175A-75E0-4AE6-A20F-7F41EC15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9EFC-FA13-451A-AE0C-914403BC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38DB-7D2B-470F-9EA1-46CBC0F0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8D65-C10E-4072-85DB-8AE6C6AF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0449-3448-45F7-AB23-83E8A2C8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639-61E6-4785-BE76-1CC1673D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2940-F381-4E48-AD85-368F6479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DA9C-5AA3-4865-BB2D-3E51192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A241-FFDE-4945-B20A-94EEC076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090F-71A9-4AFB-A6FF-84220E66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02DF-D624-470C-B6A4-ACC155FC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07B-4659-41EF-B049-1469AB63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F41-8ED1-4C5A-8184-65CEC0EB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4EB-EC9A-434C-8FB3-3C75542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46A-7949-4902-9669-18594A09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DB3-C224-4F2C-B07E-FC3F7E68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461-2D0D-4886-A68A-5DB53E21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2B9-CBF0-434C-8A9B-3AB28974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2457-A78A-4A35-A510-987C70D8E2A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845E-2F85-4307-BF3B-60565F856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44" name=""/>
            <p:cNvSpPr/>
            <p:nvPr/>
          </p:nvSpPr>
          <p:spPr>
            <a:xfrm>
              <a:off x="0" y="2971800"/>
              <a:ext cx="9142560" cy="3884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33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345280" y="114480"/>
              <a:ext cx="2631960" cy="3149280"/>
              <a:chOff x="5345280" y="114480"/>
              <a:chExt cx="2631960" cy="314928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5691240" y="114480"/>
                <a:ext cx="2286000" cy="3149280"/>
                <a:chOff x="5691240" y="114480"/>
                <a:chExt cx="2286000" cy="31492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56912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flipV="1">
                  <a:off x="5746680" y="2571480"/>
                  <a:ext cx="227160" cy="409320"/>
                </a:xfrm>
                <a:prstGeom prst="line">
                  <a:avLst/>
                </a:prstGeom>
                <a:ln cap="sq"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V="1">
                  <a:off x="7008840" y="385920"/>
                  <a:ext cx="79200" cy="156960"/>
                </a:xfrm>
                <a:prstGeom prst="line">
                  <a:avLst/>
                </a:prstGeom>
                <a:ln cap="sq"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7142040" y="114480"/>
                  <a:ext cx="79560" cy="156960"/>
                </a:xfrm>
                <a:prstGeom prst="line">
                  <a:avLst/>
                </a:prstGeom>
                <a:ln cap="sq"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59990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"/>
              <p:cNvSpPr/>
              <p:nvPr/>
            </p:nvSpPr>
            <p:spPr>
              <a:xfrm>
                <a:off x="53452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5345280" y="644400"/>
                <a:ext cx="2209680" cy="1760760"/>
                <a:chOff x="5345280" y="644400"/>
                <a:chExt cx="2209680" cy="176076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56577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959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58230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53452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9976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8626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0772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4296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5674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5468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4975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6707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0340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4706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6978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9753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2738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673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33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75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B9E2-C251-488E-AE4E-3981E46ECC9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29714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1625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A4D7-B5CD-414B-AAA1-5C6FD05CEC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ff"/>
                </a:solidFill>
                <a:latin typeface="Times New Roman"/>
              </a:rPr>
              <a:t>КОНФЕРЕНЦИ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3141720"/>
            <a:ext cx="87138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Земля -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 общий дом"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09D2E3A-1B5F-4343-A74F-96B72BF591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Сохраним </a:t>
            </a:r>
            <a:br>
              <a:rPr sz="4000"/>
            </a:b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родную природу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760920"/>
            <a:ext cx="4067280" cy="30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грибок"/>
          <p:cNvPicPr/>
          <p:nvPr/>
        </p:nvPicPr>
        <p:blipFill>
          <a:blip r:embed="rId3"/>
          <a:stretch/>
        </p:blipFill>
        <p:spPr>
          <a:xfrm>
            <a:off x="1763640" y="1413000"/>
            <a:ext cx="3888000" cy="3068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211640" y="3429000"/>
            <a:ext cx="493236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788000" y="0"/>
            <a:ext cx="4356000" cy="32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6A5C0-EA93-4DA0-A6EE-CEDC7C4327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2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324000" y="5013360"/>
            <a:ext cx="8135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ивительное 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красное рядом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A47EF-58E7-441C-A9F5-4016AF8EF9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55640" y="189000"/>
            <a:ext cx="799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дивительное и 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красное рядом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DDF36-6619-4558-BBCB-A083C43CFB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324000" y="0"/>
            <a:ext cx="8820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де уничтожается природа -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ам иссякает жизнь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8E07F-866A-4B88-8B60-BEA675877D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Times New Roman"/>
              </a:rPr>
              <a:t>Закончи предложение: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657080"/>
            <a:ext cx="8278920" cy="50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ff33"/>
                </a:solidFill>
                <a:uFillTx/>
                <a:latin typeface="Times New Roman"/>
              </a:rPr>
              <a:t>Мне понравилось на конференции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ff33"/>
                </a:solidFill>
                <a:uFillTx/>
                <a:latin typeface="Times New Roman"/>
              </a:rPr>
              <a:t>Я хотел(а) бы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ff33"/>
                </a:solidFill>
                <a:uFillTx/>
                <a:latin typeface="Times New Roman"/>
              </a:rPr>
              <a:t>Я начал(а) задумываться…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ff33"/>
                </a:solidFill>
                <a:uFillTx/>
                <a:latin typeface="Times New Roman"/>
              </a:rPr>
              <a:t>Постараюсь никогда…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ff33"/>
                </a:solidFill>
                <a:uFillTx/>
                <a:latin typeface="Times New Roman"/>
              </a:rPr>
              <a:t>Мой любимый уголок природы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A80A8-769A-42F3-A1B4-109DC9900C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44139-40B9-4C0F-B14F-A72CC7D68E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611280" y="476280"/>
            <a:ext cx="85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не любить 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ную землю!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96BD9-843C-41FD-9CF8-2D11F7D028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250920" y="0"/>
            <a:ext cx="889308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Берегите и преумножай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одную природу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573F9-00CB-4497-8C0C-6D3FBB7F17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Доказать, что здоровье людей сейчас и в будущем зависит от того, как  мы будем относиться к прир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Продолжить работу по экологическому воспитанию учащих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Воспитывать чувство доброго отношения ко всему живому на земле,           бережное отношение к природе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2285C-9B21-4BF7-95A9-42D8E0DC91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79280" y="0"/>
            <a:ext cx="86407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Не торопись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Не беги, подожди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Послушай ласковый голос природы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помоги слабому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34FA5-DE77-41AD-8D79-C97AA8EF75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24000" y="189000"/>
            <a:ext cx="8351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Самая чистая радость -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адость прир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FF7BF-F223-47DB-83B0-AF5DDA5EF0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В крутом овраге под горой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бьет из камней родник холодный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чтоб напоить людей водой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прозрачной, чистой и студеной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86421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379AB-65BF-42B1-B65B-5ED0798A8E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31B5C-AA34-40CB-90FC-C89838FE96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Воронежский заповедник был создан в 1927 году для сохранения и разведения бобра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300720" y="1197000"/>
            <a:ext cx="2592360" cy="2809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300720" y="41940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179280" y="4005360"/>
            <a:ext cx="2845080" cy="2492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1835280" y="1916280"/>
            <a:ext cx="4392360" cy="31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DE80D-DD53-4CC1-A4FB-6F1EAF827F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7920000" cy="604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484360" y="1916280"/>
            <a:ext cx="5904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ыл  создан 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храны растений,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вотных (особенно выхухоли)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птиц 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1935 году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82BC2-663C-4DD1-943B-8E6F581AF2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24000" y="5013360"/>
            <a:ext cx="82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храняйте муравейники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EF70A-1DA7-4E7E-86BA-103ED800ED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2:13:50Z</dcterms:created>
  <dc:creator>Admin</dc:creator>
  <dc:description/>
  <dc:language>en-US</dc:language>
  <cp:lastModifiedBy>Leo</cp:lastModifiedBy>
  <dcterms:modified xsi:type="dcterms:W3CDTF">2019-02-02T07:54:34Z</dcterms:modified>
  <cp:revision>34</cp:revision>
  <dc:subject/>
  <dc:title>«Земля – наш общий дом»</dc:title>
</cp:coreProperties>
</file>