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57F-C69B-497D-906E-B3B527A9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4BD-8F30-4EBD-8639-7D65705B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63C-17EC-485F-8363-67E8A162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EAD-F52A-4422-A4CD-F24553E8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2BF0-8567-4042-A209-8C6A4EB6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F8BA-F525-4764-AF48-AE497CB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2044-4FA4-4FB5-B797-7F2A90F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9052-D3CB-4A29-9E72-C2C9AD7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47F-0AC2-49B9-A558-8739E55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3DC6-A4C2-49BD-9D88-FFD7A65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204-6C59-4A4F-8F38-91D82B2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438-16FF-45E4-9B0B-DF181CB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AEC9-E6AC-4E44-8E72-F2E32D06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D05F-F7F5-483C-A9A8-2CBB11AA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0E7-B2FA-4C0C-A1FF-7438153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AAF-DBFE-417A-93FF-F6130809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D86C-D8B8-40CE-8F67-54EC5A81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920-1F65-49DF-8015-4DFBA29A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807-CF1D-439F-BBAB-791C6FA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954-F7E5-4C00-8851-F3DAC7D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2AE-B263-4BCE-B1C5-8443991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C61-BAD4-4D3E-A482-9D42789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D03-8DBC-4460-B546-CD13F07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E10-A48B-4143-A7D8-308D2DD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ADFD-DEB6-41DC-95A2-062F3CC31E5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E468-8A1E-4E5D-987D-A1BD619E3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44" name=""/>
            <p:cNvSpPr/>
            <p:nvPr/>
          </p:nvSpPr>
          <p:spPr>
            <a:xfrm>
              <a:off x="0" y="2971800"/>
              <a:ext cx="9142560" cy="3884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345280" y="114480"/>
              <a:ext cx="2631960" cy="3149280"/>
              <a:chOff x="5345280" y="114480"/>
              <a:chExt cx="2631960" cy="314928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5691240" y="114480"/>
                <a:ext cx="2286000" cy="3149280"/>
                <a:chOff x="5691240" y="114480"/>
                <a:chExt cx="2286000" cy="31492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56912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5746680" y="2571480"/>
                  <a:ext cx="227160" cy="409320"/>
                </a:xfrm>
                <a:prstGeom prst="line">
                  <a:avLst/>
                </a:prstGeom>
                <a:ln cap="sq"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7008840" y="385920"/>
                  <a:ext cx="79200" cy="156960"/>
                </a:xfrm>
                <a:prstGeom prst="line">
                  <a:avLst/>
                </a:prstGeom>
                <a:ln cap="sq"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7142040" y="114480"/>
                  <a:ext cx="79560" cy="156960"/>
                </a:xfrm>
                <a:prstGeom prst="line">
                  <a:avLst/>
                </a:prstGeom>
                <a:ln cap="sq"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9990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53452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5345280" y="644400"/>
                <a:ext cx="2209680" cy="1760760"/>
                <a:chOff x="5345280" y="644400"/>
                <a:chExt cx="2209680" cy="17607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56577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959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8230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3452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9976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626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0772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4296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5674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5468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4975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6707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0340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706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6978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9753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2738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673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75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BFF1-0AE7-42EC-93B0-C5D3670624D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29714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1625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5AB9-4F4C-4819-9149-0E89FBE86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Times New Roman"/>
              </a:rPr>
              <a:t>КОНФЕРЕНЦ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3141720"/>
            <a:ext cx="87138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Земля -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 общий дом"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447F9F-8869-4E31-BF85-5095D71E46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Сохраним </a:t>
            </a:r>
            <a:br>
              <a:rPr sz="4000"/>
            </a:b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родную природу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760920"/>
            <a:ext cx="4067280" cy="30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грибок"/>
          <p:cNvPicPr/>
          <p:nvPr/>
        </p:nvPicPr>
        <p:blipFill>
          <a:blip r:embed="rId3"/>
          <a:stretch/>
        </p:blipFill>
        <p:spPr>
          <a:xfrm>
            <a:off x="1763640" y="1413000"/>
            <a:ext cx="3888000" cy="3068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211640" y="3429000"/>
            <a:ext cx="493236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788000" y="0"/>
            <a:ext cx="4356000" cy="32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B5316-2F86-471A-BF19-DE178D6CF3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24000" y="5013360"/>
            <a:ext cx="8135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ивительное 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красное рядом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BFA2B-824F-4DF5-9041-AE17CDCD5A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55640" y="189000"/>
            <a:ext cx="799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дивительное и 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красное рядом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3C8E1-8B76-40C3-BAA8-9976DD3BE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324000" y="0"/>
            <a:ext cx="8820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уничтожается природа -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ам иссякает жизнь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7620B-FD6E-4DB1-AEB6-EDE503454A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Закончи предложение: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657080"/>
            <a:ext cx="8278920" cy="50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Мне понравилось на конференции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Я хотел(а) бы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Я начал(а) задумываться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Постараюсь никогда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Мой любимый уголок природы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28D4E-AE0E-4C2B-8626-FFABC3EF9B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9D202-8EB7-4E63-B1C5-959AEACDD8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11280" y="476280"/>
            <a:ext cx="85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не любить 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ую землю!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997E3-86D9-4470-A7E3-2160E7D52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50920" y="0"/>
            <a:ext cx="889308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Берегите и преумножай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дную природу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22375-A8A4-4686-B007-150E657835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Доказать, что здоровье людей сейчас и в будущем зависит от того, как  мы будем относиться к прир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Продолжить работу по экологическому воспитанию уча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Воспитывать чувство доброго отношения ко всему живому на земле,           бережное отношение к природе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49020-10D4-438C-9B99-EDE0CA04B6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0"/>
            <a:ext cx="86407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е торопись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е беги, подожд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ослушай ласковый голос природы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омоги слабому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90387-8A67-46E1-B323-F0C0920C2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4000" y="189000"/>
            <a:ext cx="8351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амая чистая радость -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адость прир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B215F-86B5-4A65-AC89-93778C771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В крутом овраге под горой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бьет из камней родник холодный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чтоб напоить людей водой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прозрачной, чистой и студено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86421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43A8E-CD29-4DC8-A732-AC3335FEFC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F4038-8CCB-4227-B8C3-2005ED9DC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Воронежский заповедник был создан в 1927 году для сохранения и разведения бобра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300720" y="1197000"/>
            <a:ext cx="2592360" cy="2809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30072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79280" y="4005360"/>
            <a:ext cx="2845080" cy="2492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1835280" y="1916280"/>
            <a:ext cx="4392360" cy="31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FF361-ECE1-43F3-8C60-899DAB7FB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7920000" cy="604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484360" y="1916280"/>
            <a:ext cx="590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ыл  создан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храны растений,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вотных (особенно выхухоли)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тиц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1935 году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138D6-A0D6-46BE-88CF-A062DF052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501336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храняйте муравейник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6FDA5-FC3A-4DA5-A0DA-EE0066F75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2:13:50Z</dcterms:created>
  <dc:creator>Admin</dc:creator>
  <dc:description/>
  <dc:language>en-US</dc:language>
  <cp:lastModifiedBy>Leo</cp:lastModifiedBy>
  <dcterms:modified xsi:type="dcterms:W3CDTF">2019-02-02T07:54:34Z</dcterms:modified>
  <cp:revision>34</cp:revision>
  <dc:subject/>
  <dc:title>«Земля – наш общий дом»</dc:title>
</cp:coreProperties>
</file>