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042-8C1A-400B-8783-3711BE9D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865-2DA9-453F-A53D-C0E5A574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09F-2696-4199-9D73-B2A3D80E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D18-9329-4C92-974D-9A0CF433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8A86-5BC8-45AB-BA16-03EC25B9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008E-225D-406C-A584-01FECA62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6AD3-10F7-4FBE-BC55-707A1603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8AAC-6D2C-4B8C-A64E-FEB213E2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D4D8-72DE-406E-95A5-4EE637D2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986E-31A9-44F1-B2E5-BD4EEAEA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D0E4-DF83-44B8-9594-BDD44781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031-4C8F-4E3D-9A03-F39BE31F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16B6-9002-4693-A212-C5EEC95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26FD-DF1A-4C5E-9B31-57CB28CF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DA33-EB26-41CE-82A1-1815DC72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DB80-3C28-4F7A-A6CC-AA41787F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A64C-EC68-4728-AFDD-B0B69324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BC6-9BF4-4D75-AD7C-AD6DEB7C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98B-E25B-4CC6-B792-6787F616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3A0-0E54-4D63-9FBE-18B93E2D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01C-6095-48B5-92F3-D8D34F99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C37-5A13-4955-97D4-1A251208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9A6-EC5C-425C-B2BB-2470C905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B3C-5232-4FB3-BFFA-57535FFF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2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ECB8-5C52-4500-B18C-98556169F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48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Социально-экологический проект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11280" y="249192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ff"/>
                </a:solidFill>
                <a:latin typeface="Times New Roman"/>
              </a:rPr>
              <a:t>«Любовь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ff00ff"/>
                </a:solidFill>
                <a:latin typeface="Times New Roman"/>
              </a:rPr>
              <a:t>к родному краю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ff"/>
                </a:solidFill>
                <a:latin typeface="Times New Roman"/>
              </a:rPr>
              <a:t>безгранична»…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зультаты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социологического опрос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Использование реки Криу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60640"/>
          <a:ext cx="89647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89647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79280" y="0"/>
            <a:ext cx="7201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кция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Очистим берег для отдыха"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уд Бугрянский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539640" y="333360"/>
            <a:ext cx="763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кция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Очистим берег для отдыха"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уд Рыбчин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292720" y="2496960"/>
            <a:ext cx="3851280" cy="402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1997 году была заложена 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Школьная дубрава".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т он маленький дубок!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859280" y="4724280"/>
            <a:ext cx="4284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кция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Шуми, дубрава!"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</a:rPr>
              <a:t>Решение социо-экологических проблем на территории села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Глубокая расчистка русла реки Кри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Очистка берегов от мусо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Акции «Живи, родник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Уборка несанкционированных свал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Сбор и вывоз мусора по территории села от дворов жител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оздание благоустроенных зон отдых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в «Школьной дубраве»;б) на реке Криуш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на прудах – Бугрянском и Рыбчин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Акция «Шуми, дубрава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Создание службы экологического просвещения насе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Создание отрядов школьников «Юные эколог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. Конкурс «Лучшее подворье в селе Новая Криуш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Экономические расчеты.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лубокая расчистка русла реки – 1 млн.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борка свалок – 5 тыс.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оительство зон отдыха – 140 тыс.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рганизация вывоза мусора – 2,5 тыс. руб. (ежемесячн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здание экослужбы на селе – 3 тыс.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редства на пропаганду и агитацию населения –</a:t>
            </a:r>
            <a:r>
              <a:rPr b="1" i="1" lang="ru-RU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тыс.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ff"/>
                </a:solidFill>
                <a:latin typeface="Times New Roman"/>
              </a:rPr>
              <a:t>«Моя любовь </a:t>
            </a:r>
            <a:br>
              <a:rPr sz="4400"/>
            </a:br>
            <a:r>
              <a:rPr b="0" lang="ru-RU" sz="4400" spc="-1" strike="noStrike">
                <a:solidFill>
                  <a:srgbClr val="ff00ff"/>
                </a:solidFill>
                <a:latin typeface="Times New Roman"/>
              </a:rPr>
              <a:t>к родной Криуше</a:t>
            </a:r>
            <a:br>
              <a:rPr sz="4400"/>
            </a:br>
            <a:r>
              <a:rPr b="0" lang="ru-RU" sz="4400" spc="-1" strike="noStrike">
                <a:solidFill>
                  <a:srgbClr val="ff00ff"/>
                </a:solidFill>
                <a:latin typeface="Times New Roman"/>
              </a:rPr>
              <a:t> безгранична…» </a:t>
            </a:r>
            <a:br>
              <a:rPr sz="4400"/>
            </a:br>
            <a:r>
              <a:rPr b="0" lang="ru-RU" sz="4400" spc="-1" strike="noStrike">
                <a:solidFill>
                  <a:srgbClr val="ff00ff"/>
                </a:solidFill>
                <a:latin typeface="Times New Roman"/>
              </a:rPr>
              <a:t>                   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М. Кочетова, автор проекта</a:t>
            </a:r>
            <a:r>
              <a:rPr b="0" lang="ru-RU" sz="2800" spc="-1" strike="noStrike">
                <a:solidFill>
                  <a:srgbClr val="ff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3212640"/>
            <a:ext cx="83516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риуша – это родина мо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лю я милые твои просторы, люблю глубокие твои снега и зимние чудесные узо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хищена твоею красотой, твоими тропками, бегущими по лугу, небесной синью, гладью полевой. Только в тебе я вижу верную подруг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уша Новая, ты лучшее из мест, нет на Земле родней тебя и краше…»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олодова А.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95280" y="333360"/>
            <a:ext cx="842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вайте любить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еречь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роду своего края!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товности к выполнению гражданского дол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защите интересов малой родин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го  и экологически грамотного поведения в природе  и обществе как социально и личностно значимого компонента образованности челове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чувственно-эмоциональной сфер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оспитание коллективизм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звитие коммуникативных умени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дости общения, стремление к духовному и физическому                     совершенствова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лечение общественности к проблемам преобразования и благоустройства зон отдыха на территории се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4275000" y="3465000"/>
            <a:ext cx="176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Times New Roman"/>
              </a:rPr>
              <a:t>Задачи проекта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ие наблюдений за объектами природы села – прудами, рекой, дубравой, санитарным состоянием ули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ие анкетирования и социологического опроса о значимости природных объектов в жизни жителей се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проекта (сметы) благоприятной экосистемы на территории села Новая Криуш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агоустройство  зон отдыха согласно плану реализации проек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09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История села</a:t>
            </a:r>
            <a:br>
              <a:rPr sz="4400"/>
            </a:b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Новая Криуша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748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778 год – образование се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831 год - освящена первая церковь – Преображенска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878 год – освещена Воскресенская церков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953 год –школа получила статус средне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983 год – построена новое здание школы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68360" y="404640"/>
            <a:ext cx="8280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е село-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й центр Вселенной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ff"/>
                </a:solidFill>
                <a:latin typeface="Times New Roman"/>
              </a:rPr>
              <a:t>Объекты природы, которые требуют нашего особого внимания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81723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река Криуша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«Школьная дубрава»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пруд Бугрянский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пруд Рыбчин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Times New Roman"/>
              </a:rPr>
              <a:t>Река Криуша – любимое место отдыха детей сел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7752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826920" y="0"/>
            <a:ext cx="792180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ка Криуша</a:t>
            </a:r>
            <a:endParaRPr b="0" lang="en-US" sz="2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ит помощи</a:t>
            </a:r>
            <a:endParaRPr b="0" lang="en-US" sz="2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7:19:27Z</dcterms:created>
  <dc:creator>Admin</dc:creator>
  <dc:description/>
  <dc:language>en-US</dc:language>
  <cp:lastModifiedBy>Leo</cp:lastModifiedBy>
  <dcterms:modified xsi:type="dcterms:W3CDTF">2019-02-02T07:53:43Z</dcterms:modified>
  <cp:revision>35</cp:revision>
  <dc:subject/>
  <dc:title>Слайд 1</dc:title>
</cp:coreProperties>
</file>