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jpeg" ContentType="image/jpeg"/>
  <Override PartName="/ppt/media/image51.jpeg" ContentType="image/jpeg"/>
  <Override PartName="/ppt/media/image50.jpeg" ContentType="image/jpeg"/>
  <Override PartName="/ppt/media/image49.jpeg" ContentType="image/jpeg"/>
  <Override PartName="/ppt/media/image12.jpeg" ContentType="image/jpeg"/>
  <Override PartName="/ppt/media/image4.png" ContentType="image/png"/>
  <Override PartName="/ppt/media/image34.png" ContentType="image/png"/>
  <Override PartName="/ppt/media/image27.png" ContentType="image/png"/>
  <Override PartName="/ppt/media/image10.jpeg" ContentType="image/jpeg"/>
  <Override PartName="/ppt/media/image32.png" ContentType="image/png"/>
  <Override PartName="/ppt/media/image25.png" ContentType="image/png"/>
  <Override PartName="/ppt/media/image15.jpeg" ContentType="image/jpeg"/>
  <Override PartName="/ppt/media/image36.jpeg" ContentType="image/jpeg"/>
  <Override PartName="/ppt/media/image20.png" ContentType="image/png"/>
  <Override PartName="/ppt/media/image57.png" ContentType="image/png"/>
  <Override PartName="/ppt/media/image71.jpeg" ContentType="image/jpeg"/>
  <Override PartName="/ppt/media/image66.jpeg" ContentType="image/jpeg"/>
  <Override PartName="/ppt/media/image11.png" ContentType="image/png"/>
  <Override PartName="/ppt/media/image70.png" ContentType="image/png"/>
  <Override PartName="/ppt/media/image64.jpeg" ContentType="image/jpeg"/>
  <Override PartName="/ppt/media/image3.png" ContentType="image/png"/>
  <Override PartName="/ppt/media/image26.png" ContentType="image/png"/>
  <Override PartName="/ppt/media/image61.jpeg" ContentType="image/jpeg"/>
  <Override PartName="/ppt/media/image69.jpeg" ContentType="image/jpeg"/>
  <Override PartName="/ppt/media/image14.png" ContentType="image/png"/>
  <Override PartName="/ppt/media/image2.png" ContentType="image/png"/>
  <Override PartName="/ppt/media/image72.jpeg" ContentType="image/jpeg"/>
  <Override PartName="/ppt/media/image45.jpeg" ContentType="image/jpeg"/>
  <Override PartName="/ppt/media/image22.png" ContentType="image/png"/>
  <Override PartName="/ppt/media/image67.png" ContentType="image/png"/>
  <Override PartName="/ppt/media/image60.jpeg" ContentType="image/jpeg"/>
  <Override PartName="/ppt/media/image30.png" ContentType="image/png"/>
  <Override PartName="/ppt/media/image65.png" ContentType="image/png"/>
  <Override PartName="/ppt/media/image46.jpeg" ContentType="image/jpeg"/>
  <Override PartName="/ppt/media/image16.jpeg" ContentType="image/jpeg"/>
  <Override PartName="/ppt/media/image68.jpeg" ContentType="image/jpeg"/>
  <Override PartName="/ppt/media/image31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63.jpeg" ContentType="image/jpeg"/>
  <Override PartName="/ppt/media/image29.png" ContentType="image/png"/>
  <Override PartName="/ppt/media/image21.png" ContentType="image/png"/>
  <Override PartName="/ppt/media/image1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44.jpeg" ContentType="image/jpeg"/>
  <Override PartName="/ppt/media/image38.png" ContentType="image/png"/>
  <Override PartName="/ppt/media/image9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41.jpeg" ContentType="image/jpeg"/>
  <Override PartName="/ppt/media/image47.jpeg" ContentType="image/jpeg"/>
  <Override PartName="/ppt/media/image4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2429-E14B-4518-B8CC-75B20C307B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E00-7BD8-4D5E-BAF5-2D181EE31F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E4B7-2E2E-414E-8634-18087DFB15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1C89-2278-496C-AAB9-F7283AC30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8383-2B9F-4A6F-926F-16E1DC8A27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C06-A84D-4484-8A32-857CECE7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50F-06C8-4A80-8C63-672847DF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28E-0DF5-4070-8E43-DD6CA976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F7F-4185-4934-B1F0-CB576637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D792-EF8A-42E1-9841-81713A98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38FC-8495-44E0-832E-739F8732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B3DE-1C50-4047-A90C-B36C3928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C2E2-D43C-4ADC-99B9-57E20023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BC02-32C4-43BC-A8F5-B8DC677F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FEED-9CCC-4328-B3D7-11CB3443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FC49-E0CA-4E50-A8AA-102B46D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8A0-4DAB-42F4-882D-EDFB7833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41A6-6112-4361-81EE-E7E681F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85AB-6FD7-4EBB-BD7B-34EFDAE0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0DBD-F655-43C5-829F-33AF3B0A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B153-7876-4721-A74B-2376B3E5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1378-5201-4D86-87C6-61025392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9CEC-D025-4B0B-AF6C-4A0CF760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513C-9A9A-461D-BD32-563054DC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2A18-26D5-4B67-A59E-477F0BCF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E283-5BB6-451A-AA18-7E24AE2D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90B0-6E76-4D58-9BB0-9C74C918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EA6-18FA-4881-B616-0244E202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E082-B2BE-46C5-B3F6-4936A579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B703-7F9B-4527-931D-6FF60A1E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6DCB-33CD-401F-AAE1-E008702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25E9-D8F6-41D8-9ECB-E71050B9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FAC3-0E96-451C-9BEC-C6613C4A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FE0B-1489-450E-BF3C-363C995F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323E-CA29-44DC-944B-6A9FDFDA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65138-92CD-4F46-B236-631821EA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155E-332B-45D2-92E0-37A18A51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3CA4-94D2-43A0-AE3F-2D577E96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850-9B9F-4AC5-B5C6-DB38AFD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1531-ED27-4A4D-8340-01BE395B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3B33-A74A-4343-B44D-CA29645F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5ED1-C9BA-4996-93FC-A3BCC14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7DFD6-4542-4392-8743-C38C8167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6820-3FEA-4BDA-A2C6-D8F3E56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6AB3-B82C-4528-9A17-7F8D952E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799F6-9692-400E-B431-EA87D8BF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69CB-8EB5-40E0-A9A8-66E44C0B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3F0FF-8F88-414D-8BDA-612AD9D0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432-20EC-416C-9BE2-521244C8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C34-2000-4647-8A90-5338E89C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CFE-E2BE-4D28-80F3-6873463D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8D9-86AD-4D0B-BEBA-A8343D5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9E2-FDA2-41D6-BE45-59F9F02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9953-B26F-4689-951F-7B5DC024D1F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44B-D365-4E62-BD2E-992171A233F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C233-D0F0-40B3-AA7C-7EB7C344F86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08EB-0089-4F34-ABAF-7E08642FB2A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6" descr=""/>
          <p:cNvPicPr/>
          <p:nvPr/>
        </p:nvPicPr>
        <p:blipFill>
          <a:blip r:embed="rId3"/>
          <a:stretch/>
        </p:blipFill>
        <p:spPr>
          <a:xfrm>
            <a:off x="1006560" y="701640"/>
            <a:ext cx="752148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2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pic>
        <p:nvPicPr>
          <p:cNvPr id="309" name="Объект 3" descr=""/>
          <p:cNvPicPr/>
          <p:nvPr/>
        </p:nvPicPr>
        <p:blipFill>
          <a:blip r:embed="rId3"/>
          <a:stretch/>
        </p:blipFill>
        <p:spPr>
          <a:xfrm>
            <a:off x="295200" y="322200"/>
            <a:ext cx="85219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1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2"/>
          <p:cNvSpPr/>
          <p:nvPr/>
        </p:nvSpPr>
        <p:spPr>
          <a:xfrm>
            <a:off x="1324080" y="4366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021"/>
                </a:solidFill>
                <a:latin typeface="Trebuchet MS"/>
              </a:rPr>
              <a:t>Индивидуальные консультаци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Объект 3" descr=""/>
          <p:cNvPicPr/>
          <p:nvPr/>
        </p:nvPicPr>
        <p:blipFill>
          <a:blip r:embed="rId2"/>
          <a:stretch/>
        </p:blipFill>
        <p:spPr>
          <a:xfrm>
            <a:off x="361800" y="317520"/>
            <a:ext cx="845532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Объект 4" descr=""/>
          <p:cNvPicPr/>
          <p:nvPr/>
        </p:nvPicPr>
        <p:blipFill>
          <a:blip r:embed="rId2"/>
          <a:stretch/>
        </p:blipFill>
        <p:spPr>
          <a:xfrm>
            <a:off x="201600" y="341280"/>
            <a:ext cx="4316400" cy="5753160"/>
          </a:xfrm>
          <a:prstGeom prst="rect">
            <a:avLst/>
          </a:prstGeom>
          <a:ln w="0">
            <a:noFill/>
          </a:ln>
        </p:spPr>
      </p:pic>
      <p:pic>
        <p:nvPicPr>
          <p:cNvPr id="323" name="Объект 5" descr=""/>
          <p:cNvPicPr/>
          <p:nvPr/>
        </p:nvPicPr>
        <p:blipFill>
          <a:blip r:embed="rId3"/>
          <a:stretch/>
        </p:blipFill>
        <p:spPr>
          <a:xfrm>
            <a:off x="4681440" y="355680"/>
            <a:ext cx="428796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2"/>
          <a:stretch/>
        </p:blipFill>
        <p:spPr>
          <a:xfrm>
            <a:off x="622440" y="-171360"/>
            <a:ext cx="7899120" cy="1676160"/>
          </a:xfrm>
          <a:prstGeom prst="rect">
            <a:avLst/>
          </a:prstGeom>
          <a:ln w="0">
            <a:noFill/>
          </a:ln>
        </p:spPr>
      </p:pic>
      <p:pic>
        <p:nvPicPr>
          <p:cNvPr id="325" name="Объект 3" descr=""/>
          <p:cNvPicPr/>
          <p:nvPr/>
        </p:nvPicPr>
        <p:blipFill>
          <a:blip r:embed="rId3"/>
          <a:stretch/>
        </p:blipFill>
        <p:spPr>
          <a:xfrm>
            <a:off x="971640" y="868320"/>
            <a:ext cx="75578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"/>
          <p:cNvPicPr/>
          <p:nvPr/>
        </p:nvPicPr>
        <p:blipFill>
          <a:blip r:embed="rId2"/>
          <a:stretch/>
        </p:blipFill>
        <p:spPr>
          <a:xfrm>
            <a:off x="873000" y="190440"/>
            <a:ext cx="744876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2"/>
          <a:stretch/>
        </p:blipFill>
        <p:spPr>
          <a:xfrm>
            <a:off x="622440" y="-171360"/>
            <a:ext cx="7899120" cy="2390760"/>
          </a:xfrm>
          <a:prstGeom prst="rect">
            <a:avLst/>
          </a:prstGeom>
          <a:ln w="0">
            <a:noFill/>
          </a:ln>
        </p:spPr>
      </p:pic>
      <p:pic>
        <p:nvPicPr>
          <p:cNvPr id="329" name="Объект 3" descr=""/>
          <p:cNvPicPr/>
          <p:nvPr/>
        </p:nvPicPr>
        <p:blipFill>
          <a:blip r:embed="rId3"/>
          <a:stretch/>
        </p:blipFill>
        <p:spPr>
          <a:xfrm>
            <a:off x="1146240" y="1906560"/>
            <a:ext cx="69879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Объект 4" descr=""/>
          <p:cNvPicPr/>
          <p:nvPr/>
        </p:nvPicPr>
        <p:blipFill>
          <a:blip r:embed="rId2"/>
          <a:stretch/>
        </p:blipFill>
        <p:spPr>
          <a:xfrm>
            <a:off x="239760" y="631800"/>
            <a:ext cx="4209840" cy="5613480"/>
          </a:xfrm>
          <a:prstGeom prst="rect">
            <a:avLst/>
          </a:prstGeom>
          <a:ln w="0">
            <a:noFill/>
          </a:ln>
        </p:spPr>
      </p:pic>
      <p:pic>
        <p:nvPicPr>
          <p:cNvPr id="331" name="Объект 7" descr=""/>
          <p:cNvPicPr/>
          <p:nvPr/>
        </p:nvPicPr>
        <p:blipFill>
          <a:blip r:embed="rId3"/>
          <a:stretch/>
        </p:blipFill>
        <p:spPr>
          <a:xfrm>
            <a:off x="4670280" y="641520"/>
            <a:ext cx="41990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Объект 6" descr=""/>
          <p:cNvPicPr/>
          <p:nvPr/>
        </p:nvPicPr>
        <p:blipFill>
          <a:blip r:embed="rId2"/>
          <a:stretch/>
        </p:blipFill>
        <p:spPr>
          <a:xfrm>
            <a:off x="380880" y="557280"/>
            <a:ext cx="4095720" cy="5460840"/>
          </a:xfrm>
          <a:prstGeom prst="rect">
            <a:avLst/>
          </a:prstGeom>
          <a:ln w="0">
            <a:noFill/>
          </a:ln>
        </p:spPr>
      </p:pic>
      <p:pic>
        <p:nvPicPr>
          <p:cNvPr id="334" name="Объект 7" descr=""/>
          <p:cNvPicPr/>
          <p:nvPr/>
        </p:nvPicPr>
        <p:blipFill>
          <a:blip r:embed="rId3"/>
          <a:stretch/>
        </p:blipFill>
        <p:spPr>
          <a:xfrm>
            <a:off x="4840200" y="587520"/>
            <a:ext cx="4005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928800" y="1214280"/>
            <a:ext cx="72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7424640" y="6008760"/>
            <a:ext cx="1719360" cy="8492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"/>
          <p:cNvPicPr/>
          <p:nvPr/>
        </p:nvPicPr>
        <p:blipFill>
          <a:blip r:embed="rId4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2"/>
          <a:stretch/>
        </p:blipFill>
        <p:spPr>
          <a:xfrm>
            <a:off x="622440" y="-291960"/>
            <a:ext cx="7899120" cy="1796760"/>
          </a:xfrm>
          <a:prstGeom prst="rect">
            <a:avLst/>
          </a:prstGeom>
          <a:ln w="0">
            <a:noFill/>
          </a:ln>
        </p:spPr>
      </p:pic>
      <p:pic>
        <p:nvPicPr>
          <p:cNvPr id="337" name="Объект 4" descr=""/>
          <p:cNvPicPr/>
          <p:nvPr/>
        </p:nvPicPr>
        <p:blipFill>
          <a:blip r:embed="rId3"/>
          <a:stretch/>
        </p:blipFill>
        <p:spPr>
          <a:xfrm>
            <a:off x="723960" y="914400"/>
            <a:ext cx="76150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2"/>
          <a:stretch/>
        </p:blipFill>
        <p:spPr>
          <a:xfrm>
            <a:off x="622440" y="-133200"/>
            <a:ext cx="7899120" cy="1803240"/>
          </a:xfrm>
          <a:prstGeom prst="rect">
            <a:avLst/>
          </a:prstGeom>
          <a:ln w="0">
            <a:noFill/>
          </a:ln>
        </p:spPr>
      </p:pic>
      <p:pic>
        <p:nvPicPr>
          <p:cNvPr id="339" name="Объект 4" descr=""/>
          <p:cNvPicPr/>
          <p:nvPr/>
        </p:nvPicPr>
        <p:blipFill>
          <a:blip r:embed="rId3"/>
          <a:stretch/>
        </p:blipFill>
        <p:spPr>
          <a:xfrm>
            <a:off x="150840" y="1324080"/>
            <a:ext cx="4629240" cy="4749840"/>
          </a:xfrm>
          <a:prstGeom prst="rect">
            <a:avLst/>
          </a:prstGeom>
          <a:ln w="0">
            <a:noFill/>
          </a:ln>
        </p:spPr>
      </p:pic>
      <p:pic>
        <p:nvPicPr>
          <p:cNvPr id="340" name="Объект 5" descr=""/>
          <p:cNvPicPr/>
          <p:nvPr/>
        </p:nvPicPr>
        <p:blipFill>
          <a:blip r:embed="rId4"/>
          <a:stretch/>
        </p:blipFill>
        <p:spPr>
          <a:xfrm>
            <a:off x="5049720" y="1325520"/>
            <a:ext cx="36752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2"/>
          <a:stretch/>
        </p:blipFill>
        <p:spPr>
          <a:xfrm>
            <a:off x="360360" y="231840"/>
            <a:ext cx="8575560" cy="3206520"/>
          </a:xfrm>
          <a:prstGeom prst="rect">
            <a:avLst/>
          </a:prstGeom>
          <a:ln w="0">
            <a:noFill/>
          </a:ln>
        </p:spPr>
      </p:pic>
      <p:pic>
        <p:nvPicPr>
          <p:cNvPr id="342" name="Объект 3" descr=""/>
          <p:cNvPicPr/>
          <p:nvPr/>
        </p:nvPicPr>
        <p:blipFill>
          <a:blip r:embed="rId3"/>
          <a:stretch/>
        </p:blipFill>
        <p:spPr>
          <a:xfrm>
            <a:off x="1741320" y="2878200"/>
            <a:ext cx="5942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546120" y="409680"/>
            <a:ext cx="80391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79ca"/>
                </a:solidFill>
                <a:latin typeface="Trebuchet MS"/>
              </a:rPr>
              <a:t>НАДЕЖДА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1d31a"/>
                </a:solidFill>
                <a:latin typeface="Trebuchet MS"/>
              </a:rPr>
              <a:t>ЗАБОТА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rebuchet MS"/>
              </a:rPr>
              <a:t>ДОБРОТА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rebuchet MS"/>
              </a:rPr>
              <a:t>МИЛОСЕРДИЕ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2" descr="http://s13.stc.all.kpcdn.net/share/i/12/9469113/inx960x640.jpg"/>
          <p:cNvPicPr/>
          <p:nvPr/>
        </p:nvPicPr>
        <p:blipFill>
          <a:blip r:embed="rId2"/>
          <a:stretch/>
        </p:blipFill>
        <p:spPr>
          <a:xfrm>
            <a:off x="264960" y="3716280"/>
            <a:ext cx="3559320" cy="27576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30"/>
          <p:cNvSpPr/>
          <p:nvPr/>
        </p:nvSpPr>
        <p:spPr>
          <a:xfrm>
            <a:off x="1403280" y="333360"/>
            <a:ext cx="6553440" cy="6192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рмативно-правовая баз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extBox 40"/>
          <p:cNvSpPr/>
          <p:nvPr/>
        </p:nvSpPr>
        <p:spPr>
          <a:xfrm>
            <a:off x="3059280" y="3716280"/>
            <a:ext cx="5789520" cy="2757600"/>
          </a:xfrm>
          <a:prstGeom prst="rect">
            <a:avLst/>
          </a:prstGeom>
          <a:solidFill>
            <a:srgbClr val="dff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Другие дети, которые не сталкиваются со своими сверстниками с ограниченными возможностями, по-другому воспринимают инвалидов в текущей жизни. И поэтому инклюзивное образование крайне важно для всех членов общества: и для людей с ограниченными возможностями, и для просто детей, у которых нет таких проблем со здоровьем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.В. Путин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Форум ОНФ «Качественное образование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о имя страны», 15 октября201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1" name="Rectangle 277"/>
          <p:cNvGrpSpPr/>
          <p:nvPr/>
        </p:nvGrpSpPr>
        <p:grpSpPr>
          <a:xfrm>
            <a:off x="298440" y="1316160"/>
            <a:ext cx="2633760" cy="2219040"/>
            <a:chOff x="298440" y="1316160"/>
            <a:chExt cx="2633760" cy="2219040"/>
          </a:xfrm>
        </p:grpSpPr>
        <p:pic>
          <p:nvPicPr>
            <p:cNvPr id="232" name="Rectangle 277" descr=""/>
            <p:cNvPicPr/>
            <p:nvPr/>
          </p:nvPicPr>
          <p:blipFill>
            <a:blip r:embed="rId3"/>
            <a:stretch/>
          </p:blipFill>
          <p:spPr>
            <a:xfrm>
              <a:off x="298440" y="1316160"/>
              <a:ext cx="263376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4000" y="1341360"/>
              <a:ext cx="2592360" cy="21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ждународная Конвенция о правах инвалидов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атифицирована РФ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2012 году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4" name="Номер слайда 1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5" name="Rectangle 277"/>
          <p:cNvGrpSpPr/>
          <p:nvPr/>
        </p:nvGrpSpPr>
        <p:grpSpPr>
          <a:xfrm>
            <a:off x="3249720" y="1316160"/>
            <a:ext cx="2627280" cy="2219040"/>
            <a:chOff x="3249720" y="1316160"/>
            <a:chExt cx="2627280" cy="2219040"/>
          </a:xfrm>
        </p:grpSpPr>
        <p:pic>
          <p:nvPicPr>
            <p:cNvPr id="236" name="Rectangle 277" descr=""/>
            <p:cNvPicPr/>
            <p:nvPr/>
          </p:nvPicPr>
          <p:blipFill>
            <a:blip r:embed="rId4"/>
            <a:stretch/>
          </p:blipFill>
          <p:spPr>
            <a:xfrm>
              <a:off x="3249720" y="1316160"/>
              <a:ext cx="262728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276720" y="1341360"/>
              <a:ext cx="2582640" cy="21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кон 273 – ФЗ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Об образовании в Российской Федерации»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ст. 2,5,79…)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8" name="Rectangle 277"/>
          <p:cNvGrpSpPr/>
          <p:nvPr/>
        </p:nvGrpSpPr>
        <p:grpSpPr>
          <a:xfrm>
            <a:off x="6205680" y="1316160"/>
            <a:ext cx="2590560" cy="2219040"/>
            <a:chOff x="6205680" y="1316160"/>
            <a:chExt cx="2590560" cy="2219040"/>
          </a:xfrm>
        </p:grpSpPr>
        <p:pic>
          <p:nvPicPr>
            <p:cNvPr id="239" name="Rectangle 277" descr=""/>
            <p:cNvPicPr/>
            <p:nvPr/>
          </p:nvPicPr>
          <p:blipFill>
            <a:blip r:embed="rId5"/>
            <a:stretch/>
          </p:blipFill>
          <p:spPr>
            <a:xfrm>
              <a:off x="6205680" y="1316160"/>
              <a:ext cx="259056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227640" y="1341360"/>
              <a:ext cx="2549520" cy="21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ГОС для детей с ОВЗ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каз МОН №1598 от 19.12.1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ГОС для детей с УО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каз МОН № 1599 от 19.12.14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28"/>
          <p:cNvSpPr/>
          <p:nvPr/>
        </p:nvSpPr>
        <p:spPr>
          <a:xfrm>
            <a:off x="1992240" y="4869000"/>
            <a:ext cx="3570480" cy="1093680"/>
          </a:xfrm>
          <a:prstGeom prst="rect">
            <a:avLst/>
          </a:prstGeom>
          <a:solidFill>
            <a:srgbClr val="ffffff"/>
          </a:solidFill>
          <a:ln w="15840">
            <a:solidFill>
              <a:srgbClr val="821a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2" name="Трапеция 1"/>
          <p:cNvGrpSpPr/>
          <p:nvPr/>
        </p:nvGrpSpPr>
        <p:grpSpPr>
          <a:xfrm>
            <a:off x="596880" y="1627200"/>
            <a:ext cx="8113680" cy="1890720"/>
            <a:chOff x="596880" y="1627200"/>
            <a:chExt cx="8113680" cy="1890720"/>
          </a:xfrm>
        </p:grpSpPr>
        <p:pic>
          <p:nvPicPr>
            <p:cNvPr id="243" name="Трапеция 1" descr=""/>
            <p:cNvPicPr/>
            <p:nvPr/>
          </p:nvPicPr>
          <p:blipFill>
            <a:blip r:embed="rId2"/>
            <a:stretch/>
          </p:blipFill>
          <p:spPr>
            <a:xfrm>
              <a:off x="596880" y="1627200"/>
              <a:ext cx="811368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15960" y="1650960"/>
              <a:ext cx="807408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5" name="Номер слайда 1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25"/>
          <p:cNvSpPr/>
          <p:nvPr/>
        </p:nvSpPr>
        <p:spPr>
          <a:xfrm>
            <a:off x="1403280" y="333360"/>
            <a:ext cx="6840720" cy="6192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можные траектории обучения детей с ОВЗ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2" descr="https://ds03.infourok.ru/uploads/ex/0fe1/00019680-1019e063/hello_html_m24bf8dbe.png"/>
          <p:cNvPicPr/>
          <p:nvPr/>
        </p:nvPicPr>
        <p:blipFill>
          <a:blip r:embed="rId3"/>
          <a:stretch/>
        </p:blipFill>
        <p:spPr>
          <a:xfrm>
            <a:off x="2340000" y="952560"/>
            <a:ext cx="2232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48" name="Стрелка вправо с вырезом 37"/>
          <p:cNvGrpSpPr/>
          <p:nvPr/>
        </p:nvGrpSpPr>
        <p:grpSpPr>
          <a:xfrm>
            <a:off x="701640" y="1590840"/>
            <a:ext cx="2163960" cy="1384200"/>
            <a:chOff x="701640" y="1590840"/>
            <a:chExt cx="2163960" cy="1384200"/>
          </a:xfrm>
        </p:grpSpPr>
        <p:pic>
          <p:nvPicPr>
            <p:cNvPr id="249" name="Стрелка вправо с вырезом 37" descr=""/>
            <p:cNvPicPr/>
            <p:nvPr/>
          </p:nvPicPr>
          <p:blipFill>
            <a:blip r:embed="rId4"/>
            <a:stretch/>
          </p:blipFill>
          <p:spPr>
            <a:xfrm>
              <a:off x="701640" y="1590840"/>
              <a:ext cx="21639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73160" y="1962000"/>
              <a:ext cx="14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1323"/>
                  </a:solidFill>
                  <a:latin typeface="Arial"/>
                </a:rPr>
                <a:t>Ранняя диагностика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1" name="TextBox 3"/>
          <p:cNvSpPr/>
          <p:nvPr/>
        </p:nvSpPr>
        <p:spPr>
          <a:xfrm>
            <a:off x="330120" y="126828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00000"/>
                </a:solidFill>
                <a:uFillTx/>
                <a:latin typeface="Arial"/>
              </a:rPr>
              <a:t>Органы здравоохранени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52" name="Прямоугольник 4"/>
          <p:cNvGrpSpPr/>
          <p:nvPr/>
        </p:nvGrpSpPr>
        <p:grpSpPr>
          <a:xfrm>
            <a:off x="6534000" y="1504800"/>
            <a:ext cx="2133720" cy="1231920"/>
            <a:chOff x="6534000" y="1504800"/>
            <a:chExt cx="2133720" cy="1231920"/>
          </a:xfrm>
        </p:grpSpPr>
        <p:pic>
          <p:nvPicPr>
            <p:cNvPr id="253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6534000" y="1504800"/>
              <a:ext cx="21337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559560" y="1530360"/>
              <a:ext cx="2087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Рекомендации по формированию образовательного маршрута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55" name="Стрелка вправо с вырезом 44"/>
          <p:cNvGrpSpPr/>
          <p:nvPr/>
        </p:nvGrpSpPr>
        <p:grpSpPr>
          <a:xfrm>
            <a:off x="4091040" y="1590840"/>
            <a:ext cx="2170080" cy="1384200"/>
            <a:chOff x="4091040" y="1590840"/>
            <a:chExt cx="2170080" cy="1384200"/>
          </a:xfrm>
        </p:grpSpPr>
        <p:pic>
          <p:nvPicPr>
            <p:cNvPr id="256" name="Стрелка вправо с вырезом 44" descr=""/>
            <p:cNvPicPr/>
            <p:nvPr/>
          </p:nvPicPr>
          <p:blipFill>
            <a:blip r:embed="rId6"/>
            <a:stretch/>
          </p:blipFill>
          <p:spPr>
            <a:xfrm>
              <a:off x="4091040" y="1590840"/>
              <a:ext cx="217008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464000" y="1962000"/>
              <a:ext cx="14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01323"/>
                  </a:solidFill>
                  <a:latin typeface="Arial"/>
                </a:rPr>
                <a:t>ПМПК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8" name="TextBox 52"/>
          <p:cNvSpPr/>
          <p:nvPr/>
        </p:nvSpPr>
        <p:spPr>
          <a:xfrm>
            <a:off x="3859200" y="126828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00000"/>
                </a:solidFill>
                <a:uFillTx/>
                <a:latin typeface="Arial"/>
              </a:rPr>
              <a:t>Органы образовани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59" name="Параллелограмм 2"/>
          <p:cNvGrpSpPr/>
          <p:nvPr/>
        </p:nvGrpSpPr>
        <p:grpSpPr>
          <a:xfrm>
            <a:off x="347760" y="3548160"/>
            <a:ext cx="2560680" cy="895320"/>
            <a:chOff x="347760" y="3548160"/>
            <a:chExt cx="2560680" cy="895320"/>
          </a:xfrm>
        </p:grpSpPr>
        <p:pic>
          <p:nvPicPr>
            <p:cNvPr id="260" name="Параллелограмм 2" descr=""/>
            <p:cNvPicPr/>
            <p:nvPr/>
          </p:nvPicPr>
          <p:blipFill>
            <a:blip r:embed="rId7"/>
            <a:stretch/>
          </p:blipFill>
          <p:spPr>
            <a:xfrm>
              <a:off x="347760" y="3548160"/>
              <a:ext cx="25606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74640" y="3673440"/>
              <a:ext cx="19112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040"/>
                  </a:solidFill>
                  <a:latin typeface="Arial"/>
                </a:rPr>
                <a:t>Специальная-коррекционная школа/детский сад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2" name="Параллелограмм 17"/>
          <p:cNvGrpSpPr/>
          <p:nvPr/>
        </p:nvGrpSpPr>
        <p:grpSpPr>
          <a:xfrm>
            <a:off x="3005280" y="3548160"/>
            <a:ext cx="3359160" cy="895320"/>
            <a:chOff x="3005280" y="3548160"/>
            <a:chExt cx="3359160" cy="895320"/>
          </a:xfrm>
        </p:grpSpPr>
        <p:pic>
          <p:nvPicPr>
            <p:cNvPr id="263" name="Параллелограмм 17" descr=""/>
            <p:cNvPicPr/>
            <p:nvPr/>
          </p:nvPicPr>
          <p:blipFill>
            <a:blip r:embed="rId8"/>
            <a:stretch/>
          </p:blipFill>
          <p:spPr>
            <a:xfrm>
              <a:off x="3005280" y="3548160"/>
              <a:ext cx="33591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398760" y="3666960"/>
              <a:ext cx="257652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Общеобразовательная школа/детский сад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5" name="Параллелограмм 18"/>
          <p:cNvGrpSpPr/>
          <p:nvPr/>
        </p:nvGrpSpPr>
        <p:grpSpPr>
          <a:xfrm>
            <a:off x="6461280" y="3548160"/>
            <a:ext cx="2573280" cy="901440"/>
            <a:chOff x="6461280" y="3548160"/>
            <a:chExt cx="2573280" cy="901440"/>
          </a:xfrm>
        </p:grpSpPr>
        <p:pic>
          <p:nvPicPr>
            <p:cNvPr id="266" name="Параллелограмм 18" descr=""/>
            <p:cNvPicPr/>
            <p:nvPr/>
          </p:nvPicPr>
          <p:blipFill>
            <a:blip r:embed="rId9"/>
            <a:stretch/>
          </p:blipFill>
          <p:spPr>
            <a:xfrm>
              <a:off x="6461280" y="3548160"/>
              <a:ext cx="257328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789600" y="3676680"/>
              <a:ext cx="19227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Arial"/>
                </a:rPr>
                <a:t>Семейное образовани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8" name="Полилиния 20"/>
          <p:cNvGrpSpPr/>
          <p:nvPr/>
        </p:nvGrpSpPr>
        <p:grpSpPr>
          <a:xfrm>
            <a:off x="1908000" y="4406760"/>
            <a:ext cx="5199120" cy="427320"/>
            <a:chOff x="1908000" y="4406760"/>
            <a:chExt cx="5199120" cy="427320"/>
          </a:xfrm>
        </p:grpSpPr>
        <p:pic>
          <p:nvPicPr>
            <p:cNvPr id="269" name="Полилиния 20" descr=""/>
            <p:cNvPicPr/>
            <p:nvPr/>
          </p:nvPicPr>
          <p:blipFill>
            <a:blip r:embed="rId10"/>
            <a:stretch/>
          </p:blipFill>
          <p:spPr>
            <a:xfrm>
              <a:off x="1908000" y="4406760"/>
              <a:ext cx="519912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992240" y="4435560"/>
              <a:ext cx="50403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1" name="Скругленный прямоугольник 21"/>
          <p:cNvGrpSpPr/>
          <p:nvPr/>
        </p:nvGrpSpPr>
        <p:grpSpPr>
          <a:xfrm>
            <a:off x="237960" y="4919760"/>
            <a:ext cx="1560600" cy="963360"/>
            <a:chOff x="237960" y="4919760"/>
            <a:chExt cx="1560600" cy="963360"/>
          </a:xfrm>
        </p:grpSpPr>
        <p:pic>
          <p:nvPicPr>
            <p:cNvPr id="272" name="Скругленный прямоугольник 21" descr=""/>
            <p:cNvPicPr/>
            <p:nvPr/>
          </p:nvPicPr>
          <p:blipFill>
            <a:blip r:embed="rId11"/>
            <a:stretch/>
          </p:blipFill>
          <p:spPr>
            <a:xfrm>
              <a:off x="237960" y="4919760"/>
              <a:ext cx="15606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06360" y="4992840"/>
              <a:ext cx="142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01323"/>
                  </a:solidFill>
                  <a:latin typeface="Arial"/>
                </a:rPr>
                <a:t>Специальные классы/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01323"/>
                  </a:solidFill>
                  <a:latin typeface="Arial"/>
                </a:rPr>
                <a:t>группы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4" name="Скругленный прямоугольник 22"/>
          <p:cNvGrpSpPr/>
          <p:nvPr/>
        </p:nvGrpSpPr>
        <p:grpSpPr>
          <a:xfrm>
            <a:off x="5778360" y="4919760"/>
            <a:ext cx="1633680" cy="963360"/>
            <a:chOff x="5778360" y="4919760"/>
            <a:chExt cx="1633680" cy="963360"/>
          </a:xfrm>
        </p:grpSpPr>
        <p:pic>
          <p:nvPicPr>
            <p:cNvPr id="275" name="Скругленный прямоугольник 22" descr=""/>
            <p:cNvPicPr/>
            <p:nvPr/>
          </p:nvPicPr>
          <p:blipFill>
            <a:blip r:embed="rId12"/>
            <a:stretch/>
          </p:blipFill>
          <p:spPr>
            <a:xfrm>
              <a:off x="5778360" y="4919760"/>
              <a:ext cx="16336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850000" y="4992840"/>
              <a:ext cx="149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щеобразовательные классы/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уппы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7" name="Скругленный прямоугольник 23"/>
          <p:cNvGrpSpPr/>
          <p:nvPr/>
        </p:nvGrpSpPr>
        <p:grpSpPr>
          <a:xfrm>
            <a:off x="7523280" y="4900680"/>
            <a:ext cx="1504800" cy="963720"/>
            <a:chOff x="7523280" y="4900680"/>
            <a:chExt cx="1504800" cy="963720"/>
          </a:xfrm>
        </p:grpSpPr>
        <p:pic>
          <p:nvPicPr>
            <p:cNvPr id="278" name="Скругленный прямоугольник 23" descr=""/>
            <p:cNvPicPr/>
            <p:nvPr/>
          </p:nvPicPr>
          <p:blipFill>
            <a:blip r:embed="rId13"/>
            <a:stretch/>
          </p:blipFill>
          <p:spPr>
            <a:xfrm>
              <a:off x="7523280" y="4900680"/>
              <a:ext cx="1504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593120" y="4973760"/>
              <a:ext cx="1373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Arial"/>
                </a:rPr>
                <a:t>Надомное обучени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80" name="Скругленный прямоугольник 24"/>
          <p:cNvGrpSpPr/>
          <p:nvPr/>
        </p:nvGrpSpPr>
        <p:grpSpPr>
          <a:xfrm>
            <a:off x="3859200" y="4919760"/>
            <a:ext cx="1548000" cy="963360"/>
            <a:chOff x="3859200" y="4919760"/>
            <a:chExt cx="1548000" cy="963360"/>
          </a:xfrm>
        </p:grpSpPr>
        <p:pic>
          <p:nvPicPr>
            <p:cNvPr id="281" name="Скругленный прямоугольник 24" descr=""/>
            <p:cNvPicPr/>
            <p:nvPr/>
          </p:nvPicPr>
          <p:blipFill>
            <a:blip r:embed="rId14"/>
            <a:stretch/>
          </p:blipFill>
          <p:spPr>
            <a:xfrm>
              <a:off x="3859200" y="4919760"/>
              <a:ext cx="15480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930480" y="4992840"/>
              <a:ext cx="140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щеобразовательные классы/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уппы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83" name="Скругленный прямоугольник 26"/>
          <p:cNvGrpSpPr/>
          <p:nvPr/>
        </p:nvGrpSpPr>
        <p:grpSpPr>
          <a:xfrm>
            <a:off x="2097000" y="4932360"/>
            <a:ext cx="1567080" cy="961920"/>
            <a:chOff x="2097000" y="4932360"/>
            <a:chExt cx="1567080" cy="961920"/>
          </a:xfrm>
        </p:grpSpPr>
        <p:pic>
          <p:nvPicPr>
            <p:cNvPr id="284" name="Скругленный прямоугольник 26" descr=""/>
            <p:cNvPicPr/>
            <p:nvPr/>
          </p:nvPicPr>
          <p:blipFill>
            <a:blip r:embed="rId15"/>
            <a:stretch/>
          </p:blipFill>
          <p:spPr>
            <a:xfrm>
              <a:off x="2097000" y="4932360"/>
              <a:ext cx="15670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2168640" y="5002200"/>
              <a:ext cx="142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«Ресурсные классы/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группы»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86" name="Двойная стрелка влево/вправо 27"/>
          <p:cNvGrpSpPr/>
          <p:nvPr/>
        </p:nvGrpSpPr>
        <p:grpSpPr>
          <a:xfrm>
            <a:off x="3481560" y="5241960"/>
            <a:ext cx="500040" cy="341280"/>
            <a:chOff x="3481560" y="5241960"/>
            <a:chExt cx="500040" cy="341280"/>
          </a:xfrm>
        </p:grpSpPr>
        <p:pic>
          <p:nvPicPr>
            <p:cNvPr id="287" name="Двойная стрелка влево/вправо 27" descr=""/>
            <p:cNvPicPr/>
            <p:nvPr/>
          </p:nvPicPr>
          <p:blipFill>
            <a:blip r:embed="rId16"/>
            <a:stretch/>
          </p:blipFill>
          <p:spPr>
            <a:xfrm>
              <a:off x="3481560" y="5241960"/>
              <a:ext cx="5000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578400" y="5353200"/>
              <a:ext cx="3063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89" name="Скругленная прямоугольная выноска 3"/>
          <p:cNvGrpSpPr/>
          <p:nvPr/>
        </p:nvGrpSpPr>
        <p:grpSpPr>
          <a:xfrm>
            <a:off x="3681360" y="5772240"/>
            <a:ext cx="3730680" cy="1019160"/>
            <a:chOff x="3681360" y="5772240"/>
            <a:chExt cx="3730680" cy="1019160"/>
          </a:xfrm>
        </p:grpSpPr>
        <p:pic>
          <p:nvPicPr>
            <p:cNvPr id="290" name="Скругленная прямоугольная выноска 3" descr=""/>
            <p:cNvPicPr/>
            <p:nvPr/>
          </p:nvPicPr>
          <p:blipFill>
            <a:blip r:embed="rId17"/>
            <a:stretch/>
          </p:blipFill>
          <p:spPr>
            <a:xfrm>
              <a:off x="3681360" y="5772240"/>
              <a:ext cx="373068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760920" y="6191280"/>
              <a:ext cx="3600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Инновационная модель инклюзивного образования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515880" y="530280"/>
            <a:ext cx="8147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21a08"/>
                </a:solidFill>
                <a:latin typeface="Monotype Corsiva"/>
              </a:rPr>
              <a:t>Основные линии развит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Freeform 2"/>
          <p:cNvSpPr/>
          <p:nvPr/>
        </p:nvSpPr>
        <p:spPr>
          <a:xfrm flipH="1" rot="3046800">
            <a:off x="4763880" y="498240"/>
            <a:ext cx="2470320" cy="3908520"/>
          </a:xfrm>
          <a:prstGeom prst="pie">
            <a:avLst/>
          </a:prstGeom>
          <a:solidFill>
            <a:srgbClr val="56c7aa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Freeform 3"/>
          <p:cNvSpPr/>
          <p:nvPr/>
        </p:nvSpPr>
        <p:spPr>
          <a:xfrm flipH="1" rot="3172200">
            <a:off x="1624320" y="3257640"/>
            <a:ext cx="2436840" cy="3857760"/>
          </a:xfrm>
          <a:prstGeom prst="pie">
            <a:avLst/>
          </a:prstGeom>
          <a:solidFill>
            <a:srgbClr val="5eccf3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Freeform 4"/>
          <p:cNvSpPr/>
          <p:nvPr/>
        </p:nvSpPr>
        <p:spPr>
          <a:xfrm rot="18472800">
            <a:off x="4764600" y="3264840"/>
            <a:ext cx="2468880" cy="3908520"/>
          </a:xfrm>
          <a:prstGeom prst="pie">
            <a:avLst/>
          </a:prstGeom>
          <a:solidFill>
            <a:srgbClr val="4e67c8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Freeform 5"/>
          <p:cNvSpPr/>
          <p:nvPr/>
        </p:nvSpPr>
        <p:spPr>
          <a:xfrm rot="18553200">
            <a:off x="1629360" y="495720"/>
            <a:ext cx="2468520" cy="3908520"/>
          </a:xfrm>
          <a:prstGeom prst="pie">
            <a:avLst/>
          </a:prstGeom>
          <a:solidFill>
            <a:srgbClr val="59a8d1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3200400" y="2492280"/>
            <a:ext cx="2251080" cy="2237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849920" y="1973160"/>
            <a:ext cx="23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знавательное развит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743120" y="4978440"/>
            <a:ext cx="22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ечевое развит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4896000" y="4957920"/>
            <a:ext cx="22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изическое развит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1685880" y="1998720"/>
            <a:ext cx="221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оциально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14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Прямоугольник 12"/>
          <p:cNvSpPr/>
          <p:nvPr/>
        </p:nvSpPr>
        <p:spPr>
          <a:xfrm>
            <a:off x="0" y="22320"/>
            <a:ext cx="9144000" cy="6858000"/>
          </a:xfrm>
          <a:prstGeom prst="rect">
            <a:avLst/>
          </a:prstGeom>
          <a:noFill/>
          <a:ln w="76320">
            <a:solidFill>
              <a:srgbClr val="003f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Схема 1" descr=""/>
          <p:cNvPicPr/>
          <p:nvPr/>
        </p:nvPicPr>
        <p:blipFill>
          <a:blip r:embed="rId2"/>
          <a:stretch/>
        </p:blipFill>
        <p:spPr>
          <a:xfrm>
            <a:off x="-476280" y="469800"/>
            <a:ext cx="9948960" cy="613260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14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272880" y="231840"/>
            <a:ext cx="852984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Алгоритм системы комплексного сопровождения детей с ОВЗ включает в себ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сбор информации и составление банка данных о детях с ОВЗ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овышение психолого-педагогической компетенции, профессиональное самосовершенствование всех участников комплексного сопровождения, в т.ч. и родителе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выбор технологии воспитания и развития детей с ОВЗ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разработка основных областей деятельности специалистов сопровождения с учетом комплексности взаимодейств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сихолого-педагогическая диагностика детей, определение основных направлений коррекционно-развивающей работы, составление адаптированных индивидуальных коррекционно-развивающих программ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включение родителей в процесс комплексного сопровождения ребенк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информирование родителей о результатах работы с деть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оценка эффективности совместной деятельности участников сопровождения в рамках разработанной модел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роектирование последующей работы с деть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231840" y="336600"/>
            <a:ext cx="87073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Этапы сопровождения ребенка педагогом-психологом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учение медицинской карты, диагноз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беседование с родителями для выявления особенностей развития ребен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дивидуальное обследование ребенка (наблюдение за его поведением на занятиях во время режимных моментов, диагностика познавательных процессов эмоционально-волевой сферы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заимодействие с медицинским и педагогическим персонал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ение и составление индивидуального маршрута психолого-педагогического сопровождения ребенка в ходе работы психолого-медико-педагогического консилиума (ПМПк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дивидуальная работа с каждым ребенком, реализующая цели и задачи индивидуального маршрут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Leo</cp:lastModifiedBy>
  <dcterms:modified xsi:type="dcterms:W3CDTF">2019-02-10T07:09:06Z</dcterms:modified>
  <cp:revision>141</cp:revision>
  <dc:subject/>
  <dc:title>Презентация PowerPoint</dc:title>
</cp:coreProperties>
</file>